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3CA3-EDE4-4245-A67A-999504CE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5107-7E45-4454-9B22-ADE818492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EAAE-56EE-4C0F-87C3-048351D4C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C272-694E-4098-8C07-4D1948A6F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96E9-8F01-44BB-BED1-02AE3D868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9472-6E24-442F-A40C-A474236F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C82E-1E4E-4763-ABAE-18235EBC4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4980-8F43-4297-B799-C6DEDDB57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D959-77A9-4AE1-87A8-0DA14740E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E903-E82E-4634-8C71-16DEA8F28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Populism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5" descr="96743587_edit"/>
          <p:cNvPicPr/>
          <p:nvPr/>
        </p:nvPicPr>
        <p:blipFill>
          <a:blip r:embed="rId1"/>
          <a:stretch/>
        </p:blipFill>
        <p:spPr>
          <a:xfrm>
            <a:off x="2438280" y="2514600"/>
            <a:ext cx="4419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2" descr="ch16_charts_hsus_se_p0540b"/>
          <p:cNvPicPr/>
          <p:nvPr/>
        </p:nvPicPr>
        <p:blipFill>
          <a:blip r:embed="rId1"/>
          <a:srcRect l="0" t="15148" r="0" b="5325"/>
          <a:stretch/>
        </p:blipFill>
        <p:spPr>
          <a:xfrm>
            <a:off x="2801880" y="1158840"/>
            <a:ext cx="5867280" cy="258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57200" y="1403280"/>
            <a:ext cx="2590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debate over monetary policy wa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important issue of the da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 flipH="1" rot="5400000">
            <a:off x="1599120" y="3504960"/>
            <a:ext cx="1524240" cy="3048120"/>
          </a:xfrm>
          <a:prstGeom prst="upArrowCallout">
            <a:avLst>
              <a:gd name="adj1" fmla="val 25947"/>
              <a:gd name="adj2" fmla="val 18875"/>
              <a:gd name="adj3" fmla="val 19924"/>
              <a:gd name="adj4" fmla="val 45268"/>
            </a:avLst>
          </a:prstGeom>
          <a:gradFill rotWithShape="0">
            <a:gsLst>
              <a:gs pos="0">
                <a:srgbClr val="e8eae9"/>
              </a:gs>
              <a:gs pos="100000">
                <a:srgbClr val="cdcdff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44197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ose who wanted only 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gold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dard were on one side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4"/>
          <p:cNvGrpSpPr/>
          <p:nvPr/>
        </p:nvGrpSpPr>
        <p:grpSpPr>
          <a:xfrm>
            <a:off x="3885480" y="4267080"/>
            <a:ext cx="4496400" cy="1791720"/>
            <a:chOff x="3885480" y="4267080"/>
            <a:chExt cx="4496400" cy="1791720"/>
          </a:xfrm>
        </p:grpSpPr>
        <p:sp>
          <p:nvSpPr>
            <p:cNvPr id="88" name="AutoShape 12"/>
            <p:cNvSpPr/>
            <p:nvPr/>
          </p:nvSpPr>
          <p:spPr>
            <a:xfrm flipH="1" rot="16200000">
              <a:off x="5332680" y="2819160"/>
              <a:ext cx="1524240" cy="4419720"/>
            </a:xfrm>
            <a:prstGeom prst="upArrowCallout">
              <a:avLst>
                <a:gd name="adj1" fmla="val 28549"/>
                <a:gd name="adj2" fmla="val 18875"/>
                <a:gd name="adj3" fmla="val 24150"/>
                <a:gd name="adj4" fmla="val 35979"/>
              </a:avLst>
            </a:prstGeom>
            <a:gradFill rotWithShape="0">
              <a:gsLst>
                <a:gs pos="0">
                  <a:srgbClr val="e8eae9"/>
                </a:gs>
                <a:gs pos="100000">
                  <a:srgbClr val="83d7e5"/>
                </a:gs>
              </a:gsLst>
              <a:lin ang="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0"/>
            <p:cNvSpPr/>
            <p:nvPr/>
          </p:nvSpPr>
          <p:spPr>
            <a:xfrm>
              <a:off x="4826160" y="4419720"/>
              <a:ext cx="3555720" cy="16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hose who wanted to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se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silver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old—including the Populist Party—were on the oth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9"/>
          <p:cNvSpPr/>
          <p:nvPr/>
        </p:nvSpPr>
        <p:spPr>
          <a:xfrm>
            <a:off x="5943600" y="1638360"/>
            <a:ext cx="2819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opulist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d well in 1892, electing three governors, five senators, and ten congressm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The Populist candidate for president received one million vo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in that election.</a:t>
            </a:r>
            <a:r>
              <a:rPr b="0" lang="en-US" sz="2200" spc="-1" strike="noStrike">
                <a:solidFill>
                  <a:srgbClr val="0078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851440" y="3873600"/>
            <a:ext cx="253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3" descr="HSUS_ch16_s3_PopulistPartyMap"/>
          <p:cNvPicPr/>
          <p:nvPr/>
        </p:nvPicPr>
        <p:blipFill>
          <a:blip r:embed="rId1"/>
          <a:srcRect l="2665" t="0" r="4000" b="0"/>
          <a:stretch/>
        </p:blipFill>
        <p:spPr>
          <a:xfrm>
            <a:off x="457200" y="1752480"/>
            <a:ext cx="533412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economic depression began in 1893, and labor unrest and violence broke out. The Populist Party gr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1600200" y="298764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96, a young lawyer nam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illiam Jennings Bry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poke at the national Democratic conv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2514600" y="45115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peech, with its Populist messag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ee silver,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oved Democrats to nominate Bryan. 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The Populist Party </a:t>
            </a:r>
            <a:br>
              <a:rPr sz="2200"/>
            </a:b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chose to give him their sup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8"/>
          <p:cNvSpPr/>
          <p:nvPr/>
        </p:nvSpPr>
        <p:spPr>
          <a:xfrm flipH="1" rot="10792800">
            <a:off x="1266120" y="1674000"/>
            <a:ext cx="6554880" cy="2217960"/>
          </a:xfrm>
          <a:prstGeom prst="upArrowCallout">
            <a:avLst>
              <a:gd name="adj1" fmla="val 37493"/>
              <a:gd name="adj2" fmla="val 31414"/>
              <a:gd name="adj3" fmla="val 24208"/>
              <a:gd name="adj4" fmla="val 80302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451560" cy="1282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0e7d"/>
                </a:solidFill>
                <a:latin typeface="Verdana"/>
                <a:ea typeface="MS Pゴシック"/>
              </a:rPr>
              <a:t>William Jennings Bryan campaigned against Republican candidat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MS Pゴシック"/>
              </a:rPr>
              <a:t>William McKinley</a:t>
            </a:r>
            <a:r>
              <a:rPr b="1" lang="en-US" sz="2200" spc="-1" strike="noStrike">
                <a:solidFill>
                  <a:srgbClr val="130e7d"/>
                </a:solidFill>
                <a:latin typeface="Verdana"/>
                <a:ea typeface="MS Pゴシック"/>
              </a:rPr>
              <a:t> in a way that had never been seen before. </a:t>
            </a:r>
            <a:r>
              <a:rPr b="1" lang="en-US" sz="2200" spc="-1" strike="noStrike">
                <a:solidFill>
                  <a:srgbClr val="0078cc"/>
                </a:solidFill>
                <a:latin typeface="Verdana"/>
                <a:ea typeface="MS Pゴシック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271520" y="38926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He toured the country,</a:t>
            </a:r>
            <a:br>
              <a:rPr sz="2200"/>
            </a:b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talking directly to vo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6"/>
          <p:cNvSpPr/>
          <p:nvPr/>
        </p:nvSpPr>
        <p:spPr>
          <a:xfrm>
            <a:off x="5638680" y="1638360"/>
            <a:ext cx="304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cKinley won against Brya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1896 and in 1900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rya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emphasis on money reform was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 popular with urban work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8" descr="HSUS_ch16_s3_1896PresidentialElectionMap"/>
          <p:cNvPicPr/>
          <p:nvPr/>
        </p:nvPicPr>
        <p:blipFill>
          <a:blip r:embed="rId1"/>
          <a:stretch/>
        </p:blipFill>
        <p:spPr>
          <a:xfrm>
            <a:off x="809640" y="1717560"/>
            <a:ext cx="449568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7"/>
          <p:cNvSpPr/>
          <p:nvPr/>
        </p:nvSpPr>
        <p:spPr>
          <a:xfrm flipH="1" rot="5400000">
            <a:off x="1599120" y="2438280"/>
            <a:ext cx="2362320" cy="3886200"/>
          </a:xfrm>
          <a:prstGeom prst="upArrowCallout">
            <a:avLst>
              <a:gd name="adj1" fmla="val 25947"/>
              <a:gd name="adj2" fmla="val 18875"/>
              <a:gd name="adj3" fmla="val 16390"/>
              <a:gd name="adj4" fmla="val 45268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838080" y="17524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Populist Party was weakened by supporting William Jennings Bryan on the Democratic ticket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990720" y="3301920"/>
            <a:ext cx="266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survived  another decade, but 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its viability as an alternative to the two major parties was o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4876920" y="3282840"/>
            <a:ext cx="380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of the reforms sought by the Populists eventually became reality. The new campaigning style used by Bryan became the n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838080" y="1752480"/>
            <a:ext cx="6873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problems farmers faced and the groups they formed to address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 the goals of the Populists, and explain why the Populist Party did not la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752480"/>
            <a:ext cx="762012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rang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organization of farmers who joined to learn about new farming techniques, to call for the regulation of railroad and grain elevator rates, and to prompt the establishment of the IC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Oliver H. Kelle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innesota farmer and businessman who organized the G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opulist Part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political party formed in 1892 on a platform of silver coinage, government ownership of the railroads, and fighting the corrupt and unresponsive e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838080" y="1752480"/>
            <a:ext cx="76201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illiam Jennings Brya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Democratic nominee for president in 1896, who supported many Populist principles including silver coinage, and who toured the country to speak directly to vo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illiam McKinle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publican candidate for president in 1896, who followed a traditional strategy of letting party workers campaign for h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092240" y="1638360"/>
            <a:ext cx="70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led to the rise of the Populist movement, and what effect did it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117440" y="2895480"/>
            <a:ext cx="731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llions of Americans moved west after the Civil War to pursue the American dre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A variety of factors made their lives extremely difficult, which led to the social and political revolt known as Popul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—and created one of the largest third-party movements in American hist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HSUS09_EQ_logoSmall"/>
          <p:cNvPicPr/>
          <p:nvPr/>
        </p:nvPicPr>
        <p:blipFill>
          <a:blip r:embed="rId1"/>
          <a:stretch/>
        </p:blipFill>
        <p:spPr>
          <a:xfrm>
            <a:off x="457200" y="175248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2"/>
          <p:cNvSpPr/>
          <p:nvPr/>
        </p:nvSpPr>
        <p:spPr>
          <a:xfrm>
            <a:off x="863640" y="2590920"/>
            <a:ext cx="7391520" cy="2361960"/>
          </a:xfrm>
          <a:prstGeom prst="rect">
            <a:avLst/>
          </a:prstGeom>
          <a:gradFill rotWithShape="0">
            <a:gsLst>
              <a:gs pos="0">
                <a:srgbClr val="c9c9ff"/>
              </a:gs>
              <a:gs pos="100000">
                <a:srgbClr val="e8eae9"/>
              </a:gs>
            </a:gsLst>
            <a:lin ang="108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9"/>
          <p:cNvSpPr/>
          <p:nvPr/>
        </p:nvSpPr>
        <p:spPr>
          <a:xfrm>
            <a:off x="838080" y="14479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eople moving to the West and South in the late 1800s knew that their lives would not be easy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9960" y="2666880"/>
          <a:ext cx="7162560" cy="2124360"/>
        </p:xfrm>
        <a:graphic>
          <a:graphicData uri="http://schemas.openxmlformats.org/drawingml/2006/table">
            <a:tbl>
              <a:tblPr/>
              <a:tblGrid>
                <a:gridCol w="1981080"/>
                <a:gridCol w="5181480"/>
              </a:tblGrid>
              <a:tr h="429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blems facing the farmers of the West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nd Sou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6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64"/>
          <p:cNvSpPr/>
          <p:nvPr/>
        </p:nvSpPr>
        <p:spPr>
          <a:xfrm>
            <a:off x="838080" y="5288040"/>
            <a:ext cx="8001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did not anticipate the many problems that made survival nearly impo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8"/>
          <p:cNvSpPr/>
          <p:nvPr/>
        </p:nvSpPr>
        <p:spPr>
          <a:xfrm>
            <a:off x="2971800" y="262908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prices for cr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1"/>
          <p:cNvSpPr/>
          <p:nvPr/>
        </p:nvSpPr>
        <p:spPr>
          <a:xfrm>
            <a:off x="2971800" y="31114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gh transportation, equipment, and loan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3"/>
          <p:cNvSpPr/>
          <p:nvPr/>
        </p:nvSpPr>
        <p:spPr>
          <a:xfrm>
            <a:off x="2971800" y="394956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ou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4"/>
          <p:cNvSpPr/>
          <p:nvPr/>
        </p:nvSpPr>
        <p:spPr>
          <a:xfrm>
            <a:off x="2971800" y="443232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d influence in poli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447920" y="12952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ustrated by these problems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armers began to organ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96743587_edit"/>
          <p:cNvPicPr/>
          <p:nvPr/>
        </p:nvPicPr>
        <p:blipFill>
          <a:blip r:embed="rId1"/>
          <a:stretch/>
        </p:blipFill>
        <p:spPr>
          <a:xfrm>
            <a:off x="1828800" y="2133720"/>
            <a:ext cx="518148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838080" y="17524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armers created groups to address their problem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828800" y="27082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groups formed a network called the Grange movement.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rang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as formally organized b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Oliver H. Kelle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67 and gained a million member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895480" y="43560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The Grange declined after the 1870s, but Farmers</a:t>
            </a:r>
            <a:r>
              <a:rPr b="0" lang="ja-JP" sz="2200" spc="-1" strike="noStrike">
                <a:solidFill>
                  <a:srgbClr val="0078cc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 Alliances became important reform organizations that continued the Grange</a:t>
            </a:r>
            <a:r>
              <a:rPr b="0" lang="ja-JP" sz="2200" spc="-1" strike="noStrike">
                <a:solidFill>
                  <a:srgbClr val="0078cc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s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92"/>
          <p:cNvSpPr/>
          <p:nvPr/>
        </p:nvSpPr>
        <p:spPr>
          <a:xfrm>
            <a:off x="762120" y="2514600"/>
            <a:ext cx="7696080" cy="3352680"/>
          </a:xfrm>
          <a:prstGeom prst="rect">
            <a:avLst/>
          </a:prstGeom>
          <a:gradFill rotWithShape="0">
            <a:gsLst>
              <a:gs pos="0">
                <a:srgbClr val="c9c9ff"/>
              </a:gs>
              <a:gs pos="100000">
                <a:srgbClr val="e8eae9"/>
              </a:gs>
            </a:gsLst>
            <a:lin ang="108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9"/>
          <p:cNvSpPr/>
          <p:nvPr/>
        </p:nvSpPr>
        <p:spPr>
          <a:xfrm>
            <a:off x="838080" y="13716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spread of the Farmers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Alliances led to the formation of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opulist Part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in 189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2590920"/>
          <a:ext cx="7467480" cy="3352680"/>
        </p:xfrm>
        <a:graphic>
          <a:graphicData uri="http://schemas.openxmlformats.org/drawingml/2006/table">
            <a:tbl>
              <a:tblPr/>
              <a:tblGrid>
                <a:gridCol w="3657600"/>
                <a:gridCol w="3809880"/>
              </a:tblGrid>
              <a:tr h="429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6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The Populist platform warned about the dangers of political corruption, an inadequate money supply, and an unresponsive government. They    called for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08"/>
          <p:cNvSpPr/>
          <p:nvPr/>
        </p:nvSpPr>
        <p:spPr>
          <a:xfrm>
            <a:off x="4724280" y="28195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inage of sil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9"/>
          <p:cNvSpPr/>
          <p:nvPr/>
        </p:nvSpPr>
        <p:spPr>
          <a:xfrm>
            <a:off x="4724280" y="335268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com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0"/>
          <p:cNvSpPr/>
          <p:nvPr/>
        </p:nvSpPr>
        <p:spPr>
          <a:xfrm>
            <a:off x="4724280" y="396252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vernment ownership of railr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1"/>
          <p:cNvSpPr/>
          <p:nvPr/>
        </p:nvSpPr>
        <p:spPr>
          <a:xfrm>
            <a:off x="4800600" y="50292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nk reg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0:47:23Z</dcterms:modified>
  <cp:revision>208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